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66D-94D7-4C0A-8FDC-A8D1E604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7AB-BFAD-4E6F-9933-809E7D18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D3C-F674-4A79-BE7E-3B036308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DF4-97CF-4B55-8FB1-A54EA8A7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6285-994C-4415-B702-E17DF1C8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1E24-D7EA-4B0C-BB17-A3ED9EE7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182C-DA9C-48DF-B458-3B0B4ACE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9FCB-0B1D-4145-86DB-6F74C51D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E65B-7C1E-4D1C-932D-B17A01A2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B88E-DD0B-455E-A7A8-6EE11D11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47EF-6F97-4FFA-945F-794D4FC7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C92-F157-4597-A40D-D174EFB8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2063-F628-4B39-BC20-830CE083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0D68-8ADC-4E7A-9680-04CF2BA2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C971-8046-43C7-95E5-F1A1E37C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C430-A611-443A-8F7D-6B70A44B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E3AF-AAC9-4527-ABDE-7B16E54C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504-BA5C-4825-BAA7-46BC197C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30A5-87B7-42AD-885F-B447D473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CDB-7834-4899-AA3D-F2812D82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62B-25DD-45BF-808C-E0AC9404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114-0D07-444B-A962-8681F924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2642-195A-4C9C-85A5-E1A8D81A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355-A0E0-4FBD-9D5C-6F554F3F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0905-EFF9-44DF-8407-8CEF17D234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CBE0-D399-414F-AB8B-BD69F8BFDC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4479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veloping and Communicating a Clear Consistent Mes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Principles of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Provide Commercia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 rel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volves building good relations with the company’s various publics by obtaining favorable publicity, building up a good corporate image, and handling or heading off unfavorable rumors, stories, and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s rel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nso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Provide School or Non-Profit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 rel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volves building good relations with the company’s various publics by obtaining favorable publicity, building up a good corporate image, and handling or heading off unfavorable rumors, stories, and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s rel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nso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jor Promotion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 sel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personal presentation by the firm’s sales force for the purpose of making sales and building customer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es pres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 sh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entive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Provide commercia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 sel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personal presentation by the firm’s sales force for the purpose of making sales and building customer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es pres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 sh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entive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Provide school or non-profit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 sel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personal presentation by the firm’s sales force for the purpose of making sales and building customer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es pres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 sh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entive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jor Promotion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marke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volves making direct connections with carefully targeted individual consumers to both obtain an immediate response and cultivate lasting customer relationships—by using direct mail, telephone, direct-response television, e-mail, and the Internet to communicate directly with specific consu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io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provide commercia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marke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volves making direct connections with carefully targeted individual consumers to both obtain an immediate response and cultivate lasting customer relationships—by using direct mail, telephone, direct-response television, e-mail, and the Internet to communicate directly with specific consu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io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provide school or non-profit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marke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volves making direct connections with carefully targeted individual consumers to both obtain an immediate response and cultivate lasting customer relationships—by using direct mail, telephone, direct-response television, e-mail, and the Internet to communicate directly with specific consu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io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Integrated Marketing Commun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Shifting Marketing Communications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broadcasting and more narrowca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ertisers are shifting budgets away from network television to more targeted cost-effective, interactive, and engaging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Integrated Marketing Commun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Need for Integrated Marketing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grated marketing commun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integration by the company of its communication channels to deliver a clear, consistent, and compelling message about the organization and its br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promotion m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specific blend of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ertising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relation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selling,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-marketing too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t are used to persuasively communicate value and build customer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7760160" y="63817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 View of the Communications Proces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665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Communications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 View of the Communications Proces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665760" cy="36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nd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party sending the message to another pa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process of putting thought into symbolic for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set of symbols the sender 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 View of the Communications Proces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665760" cy="36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communications channels through which the message moves from sender to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o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process by which the receiver assigns meaning to the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e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party receiving the message sent by another pa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 View of the Communications Proces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665760" cy="36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reaction of the receiver after being exposed to th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part of the receiver’s response communicated back to the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unplanned static or distortion during the communication process, which results in the receiver’s getting a different message than the one the sender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 View of the Communications Proces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6657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message to be effective, the sender’s encoding must mesh with the receiver’s decoding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messages consist of words and other symbols that are familiar to the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66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target aud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the communication 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the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the messag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665760" cy="36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dentifying the Target Aud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keting commun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gins with a clear target audience to answer these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ill be sa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it will be sa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t will be sa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it will be sa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will say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6970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rmining the Communications 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ers seek a purchase response that results from a consumer decision-making process that includes the stages of buyer read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ar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6970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rmining the Communications 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ucators need to  seek a response that results from a consumer decision-making process that includes the stages of read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ar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y In (Partnersh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665760" cy="36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signing a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A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ous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tai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jor Promotion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ertis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y paid form of non-personal presentation and promotion of ideas, goods, or services by an identified spon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do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665760" cy="36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signing a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ign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cludes the message content an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content—what to s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structure and content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a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665760" cy="36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signing a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ssage con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appeal or theme that will produce the desired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 app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otional app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al app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66657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signing a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tional appe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lates to the audience’s self-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motional appe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attempt to stir up positive or negative emotions to motivate a purc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al appe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directed at the audience’s sense of right and prop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76312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tional appe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motional appe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ral app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80880" y="2819520"/>
          <a:ext cx="8228880" cy="3472920"/>
        </p:xfrm>
        <a:graphic>
          <a:graphicData uri="http://schemas.openxmlformats.org/drawingml/2006/table">
            <a:tbl>
              <a:tblPr/>
              <a:tblGrid>
                <a:gridCol w="2742840"/>
                <a:gridCol w="2743200"/>
                <a:gridCol w="2742840"/>
              </a:tblGrid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mer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665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hoosing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sonal communi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effective because it allows personal addressing and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personal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ny (School Department/Sch Com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 expe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d of mou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665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hoosing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rsonal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ny/Sch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speople/Educ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 expe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r advo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ying guides/School Rank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d of mou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6657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hoosing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rsonal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inion lea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people within a reference group who, because of special skills, knowledge, personality, or other characteristics, exerts social influence on other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665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hoosing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rsonal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zz marke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volves cultivating opinion leaders and getting them to spread information about a product or service to others in their comm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665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n-Personal Communication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-personal commun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media that carry messages without personal contact or feedback— including major media, atmospheres, and events—that affect the buyer direc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etting the Total Promotion     Budget and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tting the Total Promotion Bud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fordable budget method- how much can you aff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centage-of-sales method-don’t spend more than on book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etitive-parity method-what have others d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-and-task method-how much to get it d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Give Commercia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ertis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y paid form of non-personal presentation and promotion of ideas, goods, or services by an identified spon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do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etting the Total Promotion     Budget and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6629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aping the Overall Promotion M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Nature of Each Promotion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s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es promo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marke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etting the Total Promotion     Budget and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665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aping the Overall Promotion M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Nature of Each Promotion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 rel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ery believable form of promotion that includes new stories, features, sponsorships, and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marke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non-public, immediate, customized, and interactive promotional tool that includes direct mail, catalogs, telemarketing, and online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we cant use public fund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etting the Total Promotion     Budget and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665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motion Mix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sh strateg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pushing the product to the consumers by inducing channel members to carry the product and promote it to final consu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B2B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ur case we “sell” to special interest groups (PTA eg) and they communicate with larger aud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etting the Total Promotion     Budget and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665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motion Mix Strate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ll strateg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when the producer directs its marketing activities toward the final consumers to induce them to buy the product and create demand from channel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6080" indent="-49608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B2C compan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ur case we go directly to each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Give School or Non-Profit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ertis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y paid form of non-personal presentation and promotion of ideas, goods, or services by an identified spon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do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jor Promotion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les promo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short-term incentives to encourage the purchase or sale of a product or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u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provide commercia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les promo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short-term incentives to encourage the purchase or sale of a product or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u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provide school or non-profit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les promo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short-term incentives to encourage the purchase or sale of a product or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u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jor Promotion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 rel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volves building good relations with the company’s various publics by obtaining favorable publicity, building up a good corporate image, and handling or heading off unfavorable rumors, stories, and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s rel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nso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7:55:14Z</dcterms:created>
  <dc:creator>Ron</dc:creator>
  <dc:description/>
  <dc:language>en-US</dc:language>
  <cp:lastModifiedBy>Thomas DiPaola</cp:lastModifiedBy>
  <dcterms:modified xsi:type="dcterms:W3CDTF">2009-12-03T22:40:49Z</dcterms:modified>
  <cp:revision>51</cp:revision>
  <dc:subject/>
  <dc:title>Slide 1</dc:title>
</cp:coreProperties>
</file>